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220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00"/>
                </a:solidFill>
                <a:latin typeface="Arial Narrow"/>
              </a:rPr>
              <a:t>Зал 5: «Объединяя поколения»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486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увеличения фотографии щелкните по ней мыш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перехода к  главному меню нажмите здес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160020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914400" y="3352680"/>
            <a:ext cx="2286000" cy="188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14840" cy="495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486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Преподаватель по литературе С. М. Иванова, автор программы по лит. крае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курсии. Экскурсовод Перминова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Родословное древо семьи Ка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позиции. Фотоальбом семьи Ка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Экспозиция «Дворянский угол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минова Света</cp:lastModifiedBy>
  <dcterms:modified xsi:type="dcterms:W3CDTF">2007-02-08T16:56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