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2203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00"/>
                </a:solidFill>
                <a:latin typeface="Arial Narrow"/>
              </a:rPr>
              <a:t>Зал 4: «Что главное в музее?»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5486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Для увеличения фотографии щелкните по ней мыш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32448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Для перехода к  главному меню нажмите здесь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346716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14400" y="1371600"/>
            <a:ext cx="2057400" cy="1895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019920" y="1523880"/>
            <a:ext cx="2133360" cy="186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429000" y="2209680"/>
            <a:ext cx="2133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553440" cy="491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рагмент экскурсии. Экскурсовод Семенова Екатер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10080" cy="4981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Композиция «На борт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79096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По дороге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790960" cy="5008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Композиция «Прогулка по палуб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553440" cy="4915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Макет парохода «Иванъ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ерминова Света</cp:lastModifiedBy>
  <dcterms:modified xsi:type="dcterms:W3CDTF">2007-02-08T16:56:5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