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220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00"/>
                </a:solidFill>
                <a:latin typeface="Arial Narrow"/>
              </a:rPr>
              <a:t>Зал 3: «Экспонат для урока»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486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увеличения фотографии щелкните по ней мыш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244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перехода к  главному меню нажмите здес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15000" y="148608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62120" y="3505320"/>
            <a:ext cx="23810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14840" cy="495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Родословное древо семьи Каме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арта принадлежащая семье Каменских. Конец 19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экскурсии для 5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Экспозиция женского Успенского монаст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акет женского Успенского монаст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минова Света</cp:lastModifiedBy>
  <dcterms:modified xsi:type="dcterms:W3CDTF">2007-02-08T16:57:1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