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220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00"/>
                </a:solidFill>
                <a:latin typeface="Arial Narrow"/>
              </a:rPr>
              <a:t>Зал 2: «Война остается в прошлом»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увеличения фотографии щелкните по ней мыш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ля перехода к  главному меню нажмите здес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1371600"/>
            <a:ext cx="18162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5800" y="3602160"/>
            <a:ext cx="236232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137160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91320" y="35812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505320" y="19051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37652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льга Ивановна Каменская, мать А. Ф. Кам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исьмо О. Л. Крыжановского матери А. Ф. Каме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134400" cy="463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рагмент родословного д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ндрей Федорович Ка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5562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мение всех Каменских  (О. И. Каменская спр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то: Д. Селив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перехода к меню зала нажмите здес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6960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минова Света</cp:lastModifiedBy>
  <dcterms:modified xsi:type="dcterms:W3CDTF">2007-02-08T16:56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