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00"/>
                </a:solidFill>
                <a:latin typeface="Arial Narrow"/>
              </a:rPr>
              <a:t>Зал 1: «С чего начинается Родина?»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увеличения фотографии щелкните по ней мышью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перехода к  главному меню нажмите здес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210040" cy="165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15000" y="3638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809880" y="297180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8487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имназия №4 имени братьев Ка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8487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акет усыпальницы Ка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8487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позиции. «Крестьянский уголо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8487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позиции. Крас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48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8487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724280" cy="4809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экспозиции. Самовар 19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минова Света</cp:lastModifiedBy>
  <dcterms:modified xsi:type="dcterms:W3CDTF">2007-02-08T16:56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