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7;%20&#1095;&#1077;&#1075;&#1086;%20&#1085;&#1072;&#1095;&#1080;&#1085;&#1072;&#1077;&#1090;&#1089;&#1103;%20&#1088;&#1086;&#1076;&#1080;&#1085;&#1072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2589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МОУ Гимназия №4 им. Братьев       Каменских </a:t>
            </a: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г. Пермь ул. Плеханова 41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3068280"/>
            <a:ext cx="982836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Команда 8 а класса: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Аброськина Марина (экскурсовод, автор эссе на тему «С чего начинается Родина?»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Зырин Борис (экскурсовод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Груздева Алина (экскурсовод, автор эссе на тему «Война остается в прошлом»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Крохалев Олег (экскурсовод, автор эссе на тему «Главный экспонат музея»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Перминова Светлана (экскурсовод, автор эссе на тему «Объединяя поколения», презентации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Семенова Екатерина (экскурсовод, автор эссе на тему «Что главное в музее»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Селиванов Денис (экскурсовод, фотограф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Купкель Анна Константиновн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Участники: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3810240" cy="36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Аброськина Марина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Зырин Борис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Груздева Али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436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охалев Олег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рминова Светла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еменова Екатери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еливанов Денис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847440" cy="868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803160" cy="86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19640" y="4365720"/>
            <a:ext cx="763560" cy="94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736560" cy="94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451640" y="2708280"/>
            <a:ext cx="835200" cy="946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451640" y="3789360"/>
            <a:ext cx="868320" cy="94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451640" y="4797360"/>
            <a:ext cx="8794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896160" cy="6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ФОТО-МУЗЕЙ ИСТОРИИ ДИНАСТИИ КАМЕНСКИХ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"/>
          <p:cNvSpPr txBox="1"/>
          <p:nvPr/>
        </p:nvSpPr>
        <p:spPr>
          <a:xfrm rot="20870400">
            <a:off x="971640" y="3213000"/>
            <a:ext cx="72723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14232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ЫЙ ВЗГЛЯД НА ПРИВЫЧНОЕ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14232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0640" y="880560"/>
            <a:ext cx="6895800" cy="6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           </a:t>
            </a: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ФОТО-МУЗЕЙ.</a:t>
            </a:r>
            <a:br>
              <a:rPr sz="4400"/>
            </a:b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Monotype Corsiva"/>
                <a:hlinkClick r:id="rId1"/>
              </a:rPr>
              <a:t>Зал 1. «С чего начинается Родина?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Зал 2. «Война остается в прошлом.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Зал 3. «Экспонат для урока.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Зал 4. «Что главное в музее?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Зал 5. «Объединяя поколения.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Эссе. «Новый взгляд на привычное.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аши новые роли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тоаппарат, мы и окружающий мир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завершения показа щелкните здес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8172360" y="5877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5080" y="602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1:23:42Z</dcterms:created>
  <dc:creator>User</dc:creator>
  <dc:description/>
  <dc:language>en-US</dc:language>
  <cp:lastModifiedBy>Перминова Света</cp:lastModifiedBy>
  <dcterms:modified xsi:type="dcterms:W3CDTF">2007-02-08T16:59:26Z</dcterms:modified>
  <cp:revision>25</cp:revision>
  <dc:subject/>
  <dc:title>МОУ Гимназия №4 им. Братьев Каменских  г. Пермь ул. Плеханова 41</dc:title>
</cp:coreProperties>
</file>